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gif" ContentType="image/gif"/>
  <Override PartName="/ppt/media/image6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FD59-61AD-4972-AEC4-6C06B7C87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CFF3-8612-4A1E-8A04-3D53684E5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F49B-71DE-462A-AF80-348A3DE74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A74F-9084-4CC5-95A3-A090474C4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12E7-C343-48A5-8D71-1DCF175E8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507B-2E66-49EB-AB77-2B0BB9C4A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68D8-D010-4329-852C-5EC8A3E4C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35FC-266E-4371-872F-4916D04C0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9693-31DB-495A-9018-89E045BAB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E442-EE1B-4788-AC22-25F5B1DFC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6581-9D35-4AF6-BDB7-9F410CB7E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D66D-BF03-4AFC-A0EB-C50E93879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B253F-842B-435B-AF1E-37F92CB4CF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../../Movies/Chapter%2008C.mpg" TargetMode="External"/><Relationship Id="rId2" Type="http://schemas.openxmlformats.org/officeDocument/2006/relationships/hyperlink" Target="file:///../../Movies/Chapter%2008D.mpg" TargetMode="Externa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file:///../../Movies/Chapter%2008E.mpg" TargetMode="External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 Look Into the Futur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8229600" cy="365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201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 is 100 years in the future and you are a research scientist. An enormous volcanic eruption has recently sent huge quantities of dust and ash into 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atmosphere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201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Working with a partner, make a list of how this event will affect each of the following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201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. photosynthesi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201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. plant lif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201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3. animal lif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201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. human societi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76212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ction 8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1523880" cy="11952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7480440" y="304920"/>
            <a:ext cx="1358640" cy="1358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ght Dependent 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gments of photosystem II absorb l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ergy is absorbed by 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energy electrons are transferred to NADP+ (electron carrier molecu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electrons are replaced by electrons produced by the breakdown of 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er is broken down into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2 electrons, 2 H+ ions, and 1 oxygen at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xygen is rele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drogen is broken apart and released inside the thylako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ght Dependent 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high energy electrons are passed through the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lectron transport cha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etween photosystem II to photosystem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nergy from the electrons is used to transport H+ ions from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he stroma into the inner thylakoid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ght Dependent 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hits the electrons that are now in photosystem I to excite them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high energy electrons are picked up by NADP+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ADP+ also picks up the H+ ions to make NAD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ght Dependent 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the electrons move onto the NADP+, 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ore H+ ions are pumped across the membr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ntually, the outside of the thylakoid becomes negatively charged and the inside becomes positively charg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ce in charge provides the energy to mak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ght Dependent 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ylakoid membrane contains an enzyme called ATP synth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+ ions pass through it to synthesize A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energy will be used to make energy-containing carbohydr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ight Dependent Reactions Vide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art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art 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187280" y="1206360"/>
            <a:ext cx="7075800" cy="462456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3855240" y="2220840"/>
            <a:ext cx="1311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on Mov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898280" y="2538360"/>
            <a:ext cx="136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hotosystem 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37600" y="3262320"/>
            <a:ext cx="944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ylako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37600" y="4341960"/>
            <a:ext cx="1031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ylako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mbr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37960" y="5218200"/>
            <a:ext cx="75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ro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986000" y="2830680"/>
            <a:ext cx="129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P synth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854360" y="2768760"/>
            <a:ext cx="368280" cy="180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1841400" y="4419720"/>
            <a:ext cx="571680" cy="1104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1841040" y="4356000"/>
            <a:ext cx="175284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530520" y="4381560"/>
            <a:ext cx="558720" cy="127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5041440" y="5067360"/>
            <a:ext cx="26676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5308560" y="3149280"/>
            <a:ext cx="3816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3911760" y="2666520"/>
            <a:ext cx="317520" cy="406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 flipV="1">
            <a:off x="4241880" y="2654280"/>
            <a:ext cx="304560" cy="24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848600" y="5433840"/>
            <a:ext cx="1459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port Ch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11440" y="5560920"/>
            <a:ext cx="131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hotosystem 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063040" y="5560920"/>
            <a:ext cx="137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P 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993720" y="2513160"/>
            <a:ext cx="108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loropla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838080" y="76212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ction 8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590920" y="231840"/>
            <a:ext cx="62244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igure 8-10 Light-Dependent Re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676520" y="3808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ight Dependent Rea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ght Dependent 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838080" y="1203480"/>
            <a:ext cx="7467840" cy="56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ght Independent 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 known as the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alvin cy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ts use the energy tha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TP and NADP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tain to build high-energy compounds that can be stored for a long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es not require l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ght Independent 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ix carbon dioxid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lecules enter the cycle from the atmosphere to produce 1  6-carbon sug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the cycle continues,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2 3-carbo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lecules are cre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3-carbon molecules obtain energy from ATP and NADPH to become high energy 3-carbon molecu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rebuchet MS"/>
              </a:rPr>
              <a:t>Chapter 8.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eaction of Photosyn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ght Independent 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of the 12 3-carbon molecules are removed from the cy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to make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ugars, lipids, amino acids, and other material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eeded for plant metabolism and grow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 of the 3-carbon molecules combine to make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6 5-carbon molec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ctors that Affect Photosynthe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sence of 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ck of water slows down photosynthe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ts also have evolved ways to help prevent water loss (waxy covering on leav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zymes function best at 0-35 degrees Celsi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nsity of L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ing light intensity increases the rate of photosynthe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is a certain amount of light intensity where the amount of photosynthesis within a plant does not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lvin Cycle Vide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alvin Cy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882720" y="1447920"/>
            <a:ext cx="7815240" cy="41893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6972480" y="3708360"/>
            <a:ext cx="876240" cy="177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018560" y="3605040"/>
            <a:ext cx="109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loropIa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064160" y="1712880"/>
            <a:ext cx="18464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ters the Cyc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413960" y="2195640"/>
            <a:ext cx="119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ergy Inp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036800" y="4202280"/>
            <a:ext cx="1211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-Carb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lecu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genera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691280" y="5662440"/>
            <a:ext cx="252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gars and other compou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830400" y="4875120"/>
            <a:ext cx="1448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-Carbon Sug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duc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76212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ction 8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590920" y="231840"/>
            <a:ext cx="51051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igure 8-11 Calvin Cy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0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00"/>
                            </p:stCondLst>
                            <p:childTnLst>
                              <p:par>
                                <p:cTn id="3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1000"/>
                            </p:stCondLst>
                            <p:childTnLst>
                              <p:par>
                                <p:cTn id="3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500"/>
                            </p:stCondLst>
                            <p:childTnLst>
                              <p:par>
                                <p:cTn id="3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1474920" y="0"/>
            <a:ext cx="6637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4197240" y="1143000"/>
            <a:ext cx="1816200" cy="7747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0760" y="4730760"/>
            <a:ext cx="1146240" cy="4888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778800" y="4660920"/>
            <a:ext cx="1473120" cy="6285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746520" y="4686480"/>
            <a:ext cx="1473120" cy="6285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842080" y="3600360"/>
            <a:ext cx="1473120" cy="6289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607160" y="3600360"/>
            <a:ext cx="1473480" cy="6289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768760" y="3600360"/>
            <a:ext cx="1473120" cy="6289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812880" y="3600360"/>
            <a:ext cx="1473120" cy="6289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724800" y="2476440"/>
            <a:ext cx="1473120" cy="6285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765440" y="2514600"/>
            <a:ext cx="1473120" cy="6285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254120" y="1332000"/>
            <a:ext cx="17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otosynth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092560" y="1917720"/>
            <a:ext cx="0" cy="8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92560" y="2209680"/>
            <a:ext cx="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565360" y="2324160"/>
            <a:ext cx="490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565360" y="23241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467480" y="2327400"/>
            <a:ext cx="0" cy="16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489040" y="3149640"/>
            <a:ext cx="0" cy="8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493040" y="3111480"/>
            <a:ext cx="0" cy="8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536840" y="325116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536840" y="3422520"/>
            <a:ext cx="0" cy="19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517920" y="3422520"/>
            <a:ext cx="0" cy="19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536840" y="3251160"/>
            <a:ext cx="0" cy="25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517920" y="3260880"/>
            <a:ext cx="0" cy="25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553080" y="3467160"/>
            <a:ext cx="1791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553080" y="34797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8344080" y="34797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493040" y="3352680"/>
            <a:ext cx="0" cy="101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270080" y="4730760"/>
            <a:ext cx="1146240" cy="4888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527200" y="4730760"/>
            <a:ext cx="1146240" cy="4888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330800" y="3638520"/>
            <a:ext cx="1323720" cy="5652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5334120" y="3352680"/>
            <a:ext cx="568080" cy="330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6298920" y="2870280"/>
            <a:ext cx="44460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530360" y="4238640"/>
            <a:ext cx="0" cy="8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860480" y="4508640"/>
            <a:ext cx="0" cy="22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22440" y="4508640"/>
            <a:ext cx="249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22440" y="4508640"/>
            <a:ext cx="0" cy="22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114720" y="4511520"/>
            <a:ext cx="0" cy="22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502080" y="423216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00760" y="420372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498840" y="4378320"/>
            <a:ext cx="1501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486320" y="4381560"/>
            <a:ext cx="0" cy="6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486320" y="4565520"/>
            <a:ext cx="0" cy="133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568920" y="4229280"/>
            <a:ext cx="0" cy="14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8353440" y="4229280"/>
            <a:ext cx="0" cy="14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568920" y="4381560"/>
            <a:ext cx="1778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27960" y="4384800"/>
            <a:ext cx="0" cy="5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527960" y="4533840"/>
            <a:ext cx="0" cy="130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682880" y="1954080"/>
            <a:ext cx="83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318920" y="437688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905560" y="3211560"/>
            <a:ext cx="118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ke place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483160" y="3084480"/>
            <a:ext cx="127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kes place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213680" y="3122640"/>
            <a:ext cx="55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001160" y="4253040"/>
            <a:ext cx="102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produ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995880" y="4329000"/>
            <a:ext cx="102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produ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321200" y="3186000"/>
            <a:ext cx="4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1941840" y="2487600"/>
            <a:ext cx="6141240" cy="677160"/>
            <a:chOff x="1941840" y="2487600"/>
            <a:chExt cx="6141240" cy="677160"/>
          </a:xfrm>
        </p:grpSpPr>
        <p:sp>
          <p:nvSpPr>
            <p:cNvPr id="261" name=""/>
            <p:cNvSpPr/>
            <p:nvPr/>
          </p:nvSpPr>
          <p:spPr>
            <a:xfrm>
              <a:off x="1941840" y="2487600"/>
              <a:ext cx="1139400" cy="67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Light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epend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act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815880" y="2612880"/>
              <a:ext cx="126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alvin cyc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965160" y="3693960"/>
            <a:ext cx="7848000" cy="482760"/>
            <a:chOff x="965160" y="3693960"/>
            <a:chExt cx="7848000" cy="482760"/>
          </a:xfrm>
        </p:grpSpPr>
        <p:sp>
          <p:nvSpPr>
            <p:cNvPr id="264" name=""/>
            <p:cNvSpPr/>
            <p:nvPr/>
          </p:nvSpPr>
          <p:spPr>
            <a:xfrm>
              <a:off x="2882160" y="3693960"/>
              <a:ext cx="125208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hylakoi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embran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558680" y="3743280"/>
              <a:ext cx="834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trom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922160" y="3743280"/>
              <a:ext cx="891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ADP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284520" y="3730680"/>
              <a:ext cx="57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T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965160" y="3693960"/>
              <a:ext cx="128556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nergy fro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unligh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328320" y="4761000"/>
            <a:ext cx="7826400" cy="482760"/>
            <a:chOff x="328320" y="4761000"/>
            <a:chExt cx="7826400" cy="482760"/>
          </a:xfrm>
        </p:grpSpPr>
        <p:sp>
          <p:nvSpPr>
            <p:cNvPr id="270" name=""/>
            <p:cNvSpPr/>
            <p:nvPr/>
          </p:nvSpPr>
          <p:spPr>
            <a:xfrm>
              <a:off x="328320" y="4824360"/>
              <a:ext cx="5752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T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381680" y="4824360"/>
              <a:ext cx="89100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ADP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875680" y="4824360"/>
              <a:ext cx="403200" cy="31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819960" y="4849920"/>
              <a:ext cx="131004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hloroplas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869160" y="4761000"/>
              <a:ext cx="128556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igh-energ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uga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"/>
          <p:cNvSpPr/>
          <p:nvPr/>
        </p:nvSpPr>
        <p:spPr>
          <a:xfrm>
            <a:off x="838080" y="76212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ction 8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590920" y="231840"/>
            <a:ext cx="51051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oncept M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295280" y="1600200"/>
            <a:ext cx="7010640" cy="5257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hloropla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te of photosynth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hloropla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ner membrane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ylako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ly folded so there is an increased surface area for absorption of sunl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s of thylakoid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a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usters of chlorophyll and other pigment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hot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quid filling of chloroplast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o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ron Carri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arrier molecule is a compound that can accept a pair of high-energy electrons and transfer them along with most of their energy to another molec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 electron carrier of photosynthesis 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ADP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rns into NADPH when it is carrying 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to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two different groupings of photosystems in photosyn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ght dependent re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ppens on th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hylakoid membr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 2 photosystems (II and 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ght independent re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ppens in th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tro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known as th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alvin cy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003320" y="1352520"/>
            <a:ext cx="6993000" cy="43434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371640" y="2602080"/>
            <a:ext cx="108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loropla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2093760" y="2320920"/>
            <a:ext cx="621000" cy="3685680"/>
            <a:chOff x="2093760" y="2320920"/>
            <a:chExt cx="621000" cy="3685680"/>
          </a:xfrm>
        </p:grpSpPr>
        <p:sp>
          <p:nvSpPr>
            <p:cNvPr id="60" name=""/>
            <p:cNvSpPr/>
            <p:nvPr/>
          </p:nvSpPr>
          <p:spPr>
            <a:xfrm>
              <a:off x="2093760" y="2320920"/>
              <a:ext cx="621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Ligh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266200" y="5635800"/>
              <a:ext cx="4032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4291200" y="2320920"/>
            <a:ext cx="823680" cy="3474360"/>
            <a:chOff x="4291200" y="2320920"/>
            <a:chExt cx="823680" cy="3474360"/>
          </a:xfrm>
        </p:grpSpPr>
        <p:sp>
          <p:nvSpPr>
            <p:cNvPr id="63" name=""/>
            <p:cNvSpPr/>
            <p:nvPr/>
          </p:nvSpPr>
          <p:spPr>
            <a:xfrm>
              <a:off x="4291200" y="5457960"/>
              <a:ext cx="823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uga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412520" y="2320920"/>
              <a:ext cx="5493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1926000" y="3868560"/>
            <a:ext cx="110268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ght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enden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264200" y="3871800"/>
            <a:ext cx="746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v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yc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146760" y="4657680"/>
            <a:ext cx="89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ADP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74560" y="43527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097080" y="3222720"/>
            <a:ext cx="96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P + 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04000" y="2955960"/>
            <a:ext cx="81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ADP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88360" y="2894040"/>
            <a:ext cx="108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loropla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38080" y="76212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ction 8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590920" y="231840"/>
            <a:ext cx="64069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igure 8-7 Photosynthesis: An Over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4197240" y="1143000"/>
            <a:ext cx="1816200" cy="7747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0760" y="4730760"/>
            <a:ext cx="1146240" cy="4888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778800" y="4660920"/>
            <a:ext cx="1473120" cy="6285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46520" y="4686480"/>
            <a:ext cx="1473120" cy="6285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842080" y="3600360"/>
            <a:ext cx="1473120" cy="6289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607160" y="3600360"/>
            <a:ext cx="1473480" cy="6289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68760" y="3600360"/>
            <a:ext cx="1473120" cy="6289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812880" y="3600360"/>
            <a:ext cx="1473120" cy="6289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724800" y="2476440"/>
            <a:ext cx="1473120" cy="6285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765440" y="2514600"/>
            <a:ext cx="1473120" cy="6285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254120" y="1332000"/>
            <a:ext cx="17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otosynth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092560" y="1917720"/>
            <a:ext cx="0" cy="8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092560" y="2209680"/>
            <a:ext cx="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565360" y="2324160"/>
            <a:ext cx="490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65360" y="23241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467480" y="2327400"/>
            <a:ext cx="0" cy="16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489040" y="3149640"/>
            <a:ext cx="0" cy="8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493040" y="3111480"/>
            <a:ext cx="0" cy="8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536840" y="325116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536840" y="3422520"/>
            <a:ext cx="0" cy="19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517920" y="3422520"/>
            <a:ext cx="0" cy="19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36840" y="3251160"/>
            <a:ext cx="0" cy="25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17920" y="3260880"/>
            <a:ext cx="0" cy="25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553080" y="3467160"/>
            <a:ext cx="1791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553080" y="34797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344080" y="34797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493040" y="3352680"/>
            <a:ext cx="0" cy="101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270080" y="4730760"/>
            <a:ext cx="1146240" cy="4888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527200" y="4730760"/>
            <a:ext cx="1146240" cy="4888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330800" y="3638520"/>
            <a:ext cx="1323720" cy="5652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334120" y="3352680"/>
            <a:ext cx="568080" cy="330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6298920" y="2870280"/>
            <a:ext cx="44460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530360" y="4238640"/>
            <a:ext cx="0" cy="8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860480" y="4508640"/>
            <a:ext cx="0" cy="22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22440" y="4508640"/>
            <a:ext cx="249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22440" y="4508640"/>
            <a:ext cx="0" cy="22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14720" y="4511520"/>
            <a:ext cx="0" cy="22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502080" y="423216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000760" y="420372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498840" y="4378320"/>
            <a:ext cx="1501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486320" y="4381560"/>
            <a:ext cx="0" cy="6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486320" y="4565520"/>
            <a:ext cx="0" cy="133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568920" y="4229280"/>
            <a:ext cx="0" cy="14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353440" y="4229280"/>
            <a:ext cx="0" cy="14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568920" y="4381560"/>
            <a:ext cx="1778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527960" y="4384800"/>
            <a:ext cx="0" cy="5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527960" y="4533840"/>
            <a:ext cx="0" cy="130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82880" y="1954080"/>
            <a:ext cx="83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318920" y="437688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905560" y="3211560"/>
            <a:ext cx="118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ke place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483160" y="3084480"/>
            <a:ext cx="127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kes place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213680" y="3122640"/>
            <a:ext cx="55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001160" y="4253040"/>
            <a:ext cx="102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produ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995880" y="4329000"/>
            <a:ext cx="102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produ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21200" y="3186000"/>
            <a:ext cx="4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1941840" y="2487600"/>
            <a:ext cx="6141240" cy="677160"/>
            <a:chOff x="1941840" y="2487600"/>
            <a:chExt cx="6141240" cy="677160"/>
          </a:xfrm>
        </p:grpSpPr>
        <p:sp>
          <p:nvSpPr>
            <p:cNvPr id="130" name=""/>
            <p:cNvSpPr/>
            <p:nvPr/>
          </p:nvSpPr>
          <p:spPr>
            <a:xfrm>
              <a:off x="1941840" y="2487600"/>
              <a:ext cx="1139400" cy="67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Light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epend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act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815880" y="2612880"/>
              <a:ext cx="126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alvin cyc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965160" y="3693960"/>
            <a:ext cx="7848000" cy="482760"/>
            <a:chOff x="965160" y="3693960"/>
            <a:chExt cx="7848000" cy="482760"/>
          </a:xfrm>
        </p:grpSpPr>
        <p:sp>
          <p:nvSpPr>
            <p:cNvPr id="133" name=""/>
            <p:cNvSpPr/>
            <p:nvPr/>
          </p:nvSpPr>
          <p:spPr>
            <a:xfrm>
              <a:off x="2882160" y="3693960"/>
              <a:ext cx="125208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hylakoi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embran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558680" y="3743280"/>
              <a:ext cx="834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trom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922160" y="3743280"/>
              <a:ext cx="891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ADP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284520" y="3730680"/>
              <a:ext cx="57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T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965160" y="3693960"/>
              <a:ext cx="128556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nergy fro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unligh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328320" y="4761000"/>
            <a:ext cx="7826400" cy="482760"/>
            <a:chOff x="328320" y="4761000"/>
            <a:chExt cx="7826400" cy="482760"/>
          </a:xfrm>
        </p:grpSpPr>
        <p:sp>
          <p:nvSpPr>
            <p:cNvPr id="139" name=""/>
            <p:cNvSpPr/>
            <p:nvPr/>
          </p:nvSpPr>
          <p:spPr>
            <a:xfrm>
              <a:off x="328320" y="4824360"/>
              <a:ext cx="5752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T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81680" y="4824360"/>
              <a:ext cx="89100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ADP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875680" y="4824360"/>
              <a:ext cx="403200" cy="31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819960" y="4849920"/>
              <a:ext cx="131004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hloroplas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869160" y="4761000"/>
              <a:ext cx="128556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igh-energ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uga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838080" y="76212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ction 8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0920" y="231840"/>
            <a:ext cx="51051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oncept M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ght Dependent 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 of photosynthesis that requires l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light energy to produce ATP and NADPH, as well as oxy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6:50:10Z</dcterms:created>
  <dc:creator>bpalme</dc:creator>
  <dc:description/>
  <dc:language>en-US</dc:language>
  <cp:lastModifiedBy>Theresa DeLaurentis</cp:lastModifiedBy>
  <dcterms:modified xsi:type="dcterms:W3CDTF">2008-02-13T22:40:06Z</dcterms:modified>
  <cp:revision>18</cp:revision>
  <dc:subject/>
  <dc:title>Chapter 8.2</dc:title>
</cp:coreProperties>
</file>